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tif" ContentType="image/tif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B5541-B578-4487-8A93-A265271F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ules should be 3-7 minutes lo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E117C4-A876-4E20-966D-BA440C30298D}" type="slidenum"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4CDD60-B9AC-43F8-AE6B-9398C01E6580}" type="slidenum"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4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8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4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8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680" y="584280"/>
            <a:ext cx="1186128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4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8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6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4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8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680" y="584280"/>
            <a:ext cx="1186128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647640" y="4749480"/>
            <a:ext cx="11709360" cy="360"/>
          </a:xfrm>
          <a:prstGeom prst="line">
            <a:avLst/>
          </a:prstGeom>
          <a:ln w="127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  <a:ea typeface="ヒラギノ角ゴ ProN W3"/>
            </a:endParaRPr>
          </a:p>
        </p:txBody>
      </p:sp>
      <p:pic>
        <p:nvPicPr>
          <p:cNvPr id="1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564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32084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680" y="501660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lick to edit Master text sty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econd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1143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ird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1600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ourth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057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ifth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647640" y="1968480"/>
            <a:ext cx="11709360" cy="360"/>
          </a:xfrm>
          <a:prstGeom prst="line">
            <a:avLst/>
          </a:prstGeom>
          <a:ln w="127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  <a:ea typeface="ヒラギノ角ゴ ProN W3"/>
            </a:endParaRPr>
          </a:p>
        </p:txBody>
      </p:sp>
      <p:pic>
        <p:nvPicPr>
          <p:cNvPr id="41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564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21120" y="299880"/>
            <a:ext cx="784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: Agency Requirements: NASA Data Policy; Version 1.0, Reviewed 6/27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lick to edit Master text sty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econd leve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ourth level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ifth level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nasa.gov/earth-science/earth-science-data/data-management-plan-guidance/" TargetMode="External"/><Relationship Id="rId2" Type="http://schemas.openxmlformats.org/officeDocument/2006/relationships/image" Target="../media/image5.t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earthdata.nasa.gov/about-eosdis/interfaces" TargetMode="External"/><Relationship Id="rId3" Type="http://schemas.openxmlformats.org/officeDocument/2006/relationships/hyperlink" Target="http://science.nasa.gov/earth-science/earth-science-data/" TargetMode="External"/><Relationship Id="rId4" Type="http://schemas.openxmlformats.org/officeDocument/2006/relationships/hyperlink" Target="http://nasascience.nasa.gov/earth-science/earth-science-data/data-information-policy/" TargetMode="External"/><Relationship Id="rId5" Type="http://schemas.openxmlformats.org/officeDocument/2006/relationships/hyperlink" Target="http://nasascience.nasa.gov/earth-science/earth-science-data/data-information-policy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ip.esipfed.org/resources" TargetMode="External"/><Relationship Id="rId2" Type="http://schemas.openxmlformats.org/officeDocument/2006/relationships/hyperlink" Target="http://www.dcc.ac.uk/resources/data-management-plans" TargetMode="External"/><Relationship Id="rId3" Type="http://schemas.openxmlformats.org/officeDocument/2006/relationships/hyperlink" Target="http://www.cdlib.org/services/uc3/datamanagement/index.html" TargetMode="External"/><Relationship Id="rId4" Type="http://schemas.openxmlformats.org/officeDocument/2006/relationships/hyperlink" Target="http://libraries.mit.edu/guides/subjects/data-management/" TargetMode="External"/><Relationship Id="rId5" Type="http://schemas.openxmlformats.org/officeDocument/2006/relationships/hyperlink" Target="http://www.lib.umn.edu/datamanagement/funding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134604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Data Management Policie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59176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58720" y="7772400"/>
            <a:ext cx="1657080" cy="1657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6654960" y="4952880"/>
            <a:ext cx="59176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DC-FullColor-01.png"/>
          <p:cNvPicPr/>
          <p:nvPr/>
        </p:nvPicPr>
        <p:blipFill>
          <a:blip r:embed="rId2"/>
          <a:srcRect l="14299" t="37935" r="12845" b="44070"/>
          <a:stretch/>
        </p:blipFill>
        <p:spPr>
          <a:xfrm>
            <a:off x="2440080" y="8077320"/>
            <a:ext cx="4671720" cy="821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58720" y="380880"/>
            <a:ext cx="8762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Section: The Case for Data Stewardshi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commits to the full and open sharing of Earth science data obtained from NASA Earth observing satellites, sub-orbital platforms and field campaigns with all users as soon as such data become available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“</a:t>
            </a: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97" name="Picture 1" descr="share.pdf"/>
          <p:cNvPicPr/>
          <p:nvPr/>
        </p:nvPicPr>
        <p:blipFill>
          <a:blip r:embed="rId1"/>
          <a:stretch/>
        </p:blipFill>
        <p:spPr>
          <a:xfrm>
            <a:off x="6578640" y="4826160"/>
            <a:ext cx="5638320" cy="18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typically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In the Earth sciences specific requirements for data management plans are described in funding documents such as the annual Research Opportunities in Space and Earth Sciences (ROSES) multifaceted research proposal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Proposers to NASA ROSES should pay particular attention to language in the specific funding announcement of interes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Where to find Guidance on NASA DMPs?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website offers specific guidance on content for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02" name="Picture 3" descr="dmp.tiff"/>
          <p:cNvPicPr/>
          <p:nvPr/>
        </p:nvPicPr>
        <p:blipFill>
          <a:blip r:embed="rId2"/>
          <a:stretch/>
        </p:blipFill>
        <p:spPr>
          <a:xfrm>
            <a:off x="8559720" y="4419720"/>
            <a:ext cx="3735000" cy="483840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4" descr="dmp_page.tiff"/>
          <p:cNvPicPr/>
          <p:nvPr/>
        </p:nvPicPr>
        <p:blipFill>
          <a:blip r:embed="rId3"/>
          <a:stretch/>
        </p:blipFill>
        <p:spPr>
          <a:xfrm>
            <a:off x="787320" y="4843440"/>
            <a:ext cx="7306920" cy="36907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Where to find Guidance on NASA DMP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Data and Information System (ESDIS) has established a process for managing flight (space, airborne)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Official websites for information on data management in the Earth Sci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2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3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4"/>
              </a:rPr>
              <a:t>http://nasascience.nasa.gov/earth-science/earth-science-data/data-information-polic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5"/>
              </a:rPr>
              <a:t>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The following link is an example of the ADURD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everal websites offer links to information about developing data management plans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esip.esipfed.org/resour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Digital Curation Centre Plans (Useful checklist for developing a data management plan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2"/>
              </a:rPr>
              <a:t>http://www.dcc.ac.uk/resources/data-management-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University of California Curation Center (Data Planning Checklist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3"/>
              </a:rPr>
              <a:t>http://www.cdlib.org/services/uc3/datamanagement/index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Data Management and Publishing (MIT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4"/>
              </a:rPr>
              <a:t>http://libraries.mit.edu/guides/subjects/data-management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Helvetica Neue"/>
                <a:ea typeface="ヒラギノ角ゴ ProN W3"/>
              </a:rPr>
              <a:t>Data Management and Publishing (Univ of Minnesota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5"/>
              </a:rPr>
              <a:t>http://www.lib.umn.edu/datamanagement/funding#What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For more information about other agency requirements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The Case for Data Stewardship: Agency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For information about developing a data management plan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Data Manage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itle &amp; Subtitle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itle &amp; Bullets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0</TotalTime>
  <Application>LibreOffice/7.4.7.2$Linux_X86_64 LibreOffice_project/40$Build-2</Application>
  <AppVersion>15.0000</AppVersion>
  <Pages>0</Pages>
  <Words>660</Words>
  <Characters>0</Character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dc:language>en-US</dc:language>
  <cp:lastModifiedBy>Ruth Duerr</cp:lastModifiedBy>
  <dcterms:modified xsi:type="dcterms:W3CDTF">2012-08-16T00:39:20Z</dcterms:modified>
  <cp:revision>59</cp:revision>
  <dc:subject/>
  <dc:title>ESIP Federation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Custom</vt:lpwstr>
  </property>
  <property fmtid="{D5CDD505-2E9C-101B-9397-08002B2CF9AE}" pid="4" name="Slides">
    <vt:r8>9</vt:r8>
  </property>
</Properties>
</file>